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4D16F-3A4B-4D46-A70D-F484048C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AF51-DA65-4DCB-8A22-33311BAA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4C4FB-45BC-406A-8C28-EFF17916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4B4C8-E279-4A76-808A-6D107F15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D091-066C-4333-B5DD-3E90DA78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9B60-D011-45F3-9761-2A543256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3C883-936A-4719-8C22-98080BA3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324B-6BD1-4378-9A64-6F037FDF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8C41-FDDE-4973-BE7C-945789AB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52D8-A3EE-4399-B08F-8145FDE8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889A-1C8D-4883-B631-EA7C6E93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E8D2E-C679-4D46-9EAE-D3BD0C26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6D8D-271B-484B-A1E0-36908E05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305B-CEF2-43E3-8609-8E7A7880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7547-02B5-4583-845D-32BD3105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2372-9BDE-416A-BC9E-06A0C8D1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FBEA-6995-4029-BD5A-1A4B725A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03B97-1DD3-4D46-9F30-B473534B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3C0DB-9F95-4A36-8368-A004BCFD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661CC-C02B-41E9-82DB-7FD7BF2E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29448-02E4-4D92-AD90-74E186AE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DE9BF-B64B-4E40-92AE-9220C712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72C8B-7A96-40F9-941A-602F0587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632D5-10E5-425E-8152-B5AF9D8C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2F1A-B4B4-4F41-9FB8-8AE0238908D7}" type="slidenum">
              <a:rPr b="0" lang="kk-K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83FD-543D-4C3D-A587-AA063BE144B8}" type="slidenum">
              <a:rPr b="0" lang="kk-K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ffff"/>
                </a:solidFill>
                <a:uFillTx/>
                <a:latin typeface="Script MT Bold"/>
              </a:rPr>
              <a:t>Рассмотрим пример №1: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ff00"/>
                </a:solidFill>
                <a:latin typeface="Vladimir Script"/>
              </a:rPr>
              <a:t>Распечатать буквы латинского алфавита через пробел одной строко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5000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79912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PROGRAM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1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VAR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: char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BEG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FOR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i:=’a’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o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‘z’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d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rite (i, ‘  ‘)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END</a:t>
            </a: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5640" y="907560"/>
            <a:ext cx="88930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ffffff"/>
                </a:solidFill>
                <a:uFillTx/>
                <a:latin typeface="Script MT Bold"/>
              </a:rPr>
              <a:t>Рассмотрим пример №2: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00ff00"/>
                </a:solidFill>
                <a:latin typeface="Vladimir Script"/>
              </a:rPr>
              <a:t>Присвоить константе свою фамилию и имя и распечатать эти данные на экран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advTm="5000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OGRAM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onst s=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Иван Петров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;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EGI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rite (‘</a:t>
            </a:r>
            <a:r>
              <a:rPr b="0" lang="kk-KZ" sz="36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оя фамилия и имя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’, s)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D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ова</cp:lastModifiedBy>
  <dcterms:modified xsi:type="dcterms:W3CDTF">2008-02-07T20:20:21Z</dcterms:modified>
  <cp:revision>10</cp:revision>
  <dc:subject/>
  <dc:title>PowerPoint Presentation</dc:title>
</cp:coreProperties>
</file>