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965-6B26-4C9A-A1E4-74B97D69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70A6-C1D0-49DE-B728-76749CF4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29C-7DED-4ADA-B8B6-EDC8E656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0A5-19FB-4BB4-AAAB-ED91BF01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40C8-E36B-467F-9DE1-139F22B3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142-AD82-4C8A-A474-F9D0CC25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776B-9003-45D8-991A-B63801D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16CF-44B0-4636-B119-6C453FD3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B032-584E-4C28-A25C-51D24E1D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0032-F060-4176-B36D-34B99563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C266-ADFC-4B57-A202-744196D4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5BE-830A-44B9-B3FE-A8983E81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A41C-B9CA-4E72-B45B-68228E0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7287-6748-4E27-A50D-8DF9DD31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A61-6E65-424B-92A4-7030C60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D90-97C4-45D2-A138-39773BDF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0D26-7181-4A9F-95CB-E920D8B7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289-3108-4C2B-BABB-D17A5D4D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5EB-75EB-4AA6-9D9A-770078E5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E094-7811-49B2-9FE3-D0D158D0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8B0-D50E-4C15-8AC7-01BEA65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A0C-0B61-4BB3-BA87-22A9C55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8E1-1FE4-42B9-B980-723947C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BB5-4CB5-44E4-AF6D-CF9B8B96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8347-24C0-455E-9DDE-53E64872CBAB}" type="slidenum">
              <a:rPr b="0" lang="kk-K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BB56-1BA8-4FC7-B488-D9F1F84DB8E1}" type="slidenum">
              <a:rPr b="0" lang="kk-K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10960" y="1341360"/>
            <a:ext cx="893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Bookman Old Style"/>
              </a:rPr>
              <a:t>Функции и процедур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Bookman Old Style"/>
              </a:rPr>
              <a:t>для работы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Bookman Old Style"/>
              </a:rPr>
              <a:t>со строковыми величинам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68360" y="1844640"/>
            <a:ext cx="837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Функция 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Georgia"/>
              </a:rPr>
              <a:t>LENGTH</a:t>
            </a: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Georgia"/>
              </a:rPr>
              <a:t> (</a:t>
            </a:r>
            <a:r>
              <a:rPr b="1" i="1" lang="en-US" sz="4000" spc="-1" strike="noStrike" u="sng">
                <a:solidFill>
                  <a:srgbClr val="ff3300"/>
                </a:solidFill>
                <a:uFillTx/>
                <a:latin typeface="Georgia"/>
              </a:rPr>
              <a:t>st</a:t>
            </a: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Georgia"/>
              </a:rPr>
              <a:t>).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Можно писать</a:t>
            </a: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 length(a)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length</a:t>
            </a: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Georgia"/>
              </a:rPr>
              <a:t>(‘abc’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49000" y="108000"/>
            <a:ext cx="8174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00"/>
                </a:solidFill>
                <a:latin typeface="Georgia"/>
              </a:rPr>
              <a:t>Длина</a:t>
            </a:r>
            <a:r>
              <a:rPr b="1" i="1" lang="ru-RU" sz="50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5000"/>
            </a:br>
            <a:r>
              <a:rPr b="1" i="1" lang="ru-RU" sz="5000" spc="-1" strike="noStrike">
                <a:solidFill>
                  <a:srgbClr val="ffff00"/>
                </a:solidFill>
                <a:latin typeface="Georgia"/>
              </a:rPr>
              <a:t>строковой</a:t>
            </a:r>
            <a:r>
              <a:rPr b="1" i="1" lang="ru-RU" sz="5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ru-RU" sz="5000" spc="-1" strike="noStrike">
                <a:solidFill>
                  <a:srgbClr val="ffff00"/>
                </a:solidFill>
                <a:latin typeface="Georgia"/>
              </a:rPr>
              <a:t>переменно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5280" y="378936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:=’abcd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1:=length(st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начение строки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1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=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319480" y="27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35120" y="99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5112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67120" y="14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82760" y="164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184480" y="420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5280" y="3789360"/>
            <a:ext cx="820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A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:=’abcdef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’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1:=copy(st,2,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начение строки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1 – ‘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bcd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66520" y="189000"/>
            <a:ext cx="78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Копирование части стро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98100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функция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COPY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 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st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,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n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,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k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),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где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исходная стро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начальная позиция,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- количество символов, </a:t>
            </a:r>
            <a:br>
              <a:rPr sz="3200"/>
            </a:b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которые будем копировать</a:t>
            </a:r>
            <a:r>
              <a:rPr b="0" i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Удаление части стро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342864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AR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:=’abcdef’; {st[0]=6}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delete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(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, 2, 3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начение строки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– ‘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aef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’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{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[0]=3}-длина строки уменьшает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39640" y="907920"/>
            <a:ext cx="801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процедура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DELETE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 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st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,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n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,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k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где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исходная строка,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начальная позиция (с какого символа начинаем удалять),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количество удаляемых симво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Вставка подстроки в стро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процедура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INSERT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 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st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1,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 st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,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 n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где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1- подстрока,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исходная строка,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n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позиция символа, с которого начинается встав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468360" y="330516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st:=’+abcd\mm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st1:=’hh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insert (st1,st, 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Значение строки 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 – ‘+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hhabcd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\</a:t>
            </a: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mm</a:t>
            </a:r>
            <a:r>
              <a:rPr b="1" i="1" lang="ru-RU" sz="3200" spc="-1" strike="noStrike">
                <a:solidFill>
                  <a:srgbClr val="0000ff"/>
                </a:solidFill>
                <a:latin typeface="Monotype Corsiva"/>
              </a:rPr>
              <a:t>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Поиск подстроки в стро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569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(первое вхождение)</a:t>
            </a:r>
            <a:r>
              <a:rPr b="1" i="1" lang="ru-RU" sz="32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функция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POS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,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:=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POS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(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1,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), где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1- подстрока,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строка, </a:t>
            </a: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k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- позиция первого вхождения подстроки, либо 0, если подстрока отсутствует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826920" y="3592440"/>
            <a:ext cx="749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1:=’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лон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:=’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слон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’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k:=pos(str1,st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начение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k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Преобразование числа любого вещественного или целого типа в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строку символов</a:t>
            </a:r>
            <a:r>
              <a:rPr b="0" i="1" lang="ru-RU" sz="4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9640" y="1917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процедура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Georgia"/>
              </a:rPr>
              <a:t>STR</a:t>
            </a: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Georgia"/>
              </a:rPr>
              <a:t> (a, st)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48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где  а – числовая переменная,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 – строка символ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9280" y="3354480"/>
            <a:ext cx="849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AR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a: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integer; b: real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,st1:str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a:=345; STR (a, st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b:=12.6789; STR (b, st1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начение 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1 - ’1.2678900000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E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+01’,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значение </a:t>
            </a: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st</a:t>
            </a:r>
            <a:r>
              <a:rPr b="1" lang="ru-RU" sz="3200" spc="-1" strike="noStrike">
                <a:solidFill>
                  <a:srgbClr val="0000ff"/>
                </a:solidFill>
                <a:latin typeface="Monotype Corsiva"/>
              </a:rPr>
              <a:t> - ’345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b5d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ffff00"/>
                </a:solidFill>
                <a:latin typeface="Georgia"/>
              </a:rPr>
              <a:t>Преобразование строки, содержащую цифры, в число вещественного или целого типа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386028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VAR   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a: integer;  b: real;  code: integer;  st: string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st:=’345’;   val (st, a, cod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60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значение переменной 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a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равно 34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60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st:=’12.6789’;  val (st, b, cod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60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значение переменной 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b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равно 1.678900000</a:t>
            </a:r>
            <a:r>
              <a:rPr b="1" lang="en-US" sz="2800" spc="-1" strike="noStrike">
                <a:solidFill>
                  <a:srgbClr val="0000ff"/>
                </a:solidFill>
                <a:latin typeface="Monotype Corsiva"/>
              </a:rPr>
              <a:t>E</a:t>
            </a: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+0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239760" y="1916280"/>
            <a:ext cx="89042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Georgia"/>
              </a:rPr>
              <a:t>процедура </a:t>
            </a:r>
            <a:r>
              <a:rPr b="1" i="1" lang="en-US" sz="2500" spc="-1" strike="noStrike" u="sng">
                <a:solidFill>
                  <a:srgbClr val="ff3300"/>
                </a:solidFill>
                <a:uFillTx/>
                <a:latin typeface="Georgia"/>
              </a:rPr>
              <a:t>VAL </a:t>
            </a:r>
            <a:r>
              <a:rPr b="1" i="1" lang="ru-RU" sz="2500" spc="-1" strike="noStrike" u="sng">
                <a:solidFill>
                  <a:srgbClr val="ff3300"/>
                </a:solidFill>
                <a:uFillTx/>
                <a:latin typeface="Georgia"/>
              </a:rPr>
              <a:t>(</a:t>
            </a:r>
            <a:r>
              <a:rPr b="1" i="1" lang="en-US" sz="2500" spc="-1" strike="noStrike" u="sng">
                <a:solidFill>
                  <a:srgbClr val="ff3300"/>
                </a:solidFill>
                <a:uFillTx/>
                <a:latin typeface="Georgia"/>
              </a:rPr>
              <a:t>st</a:t>
            </a:r>
            <a:r>
              <a:rPr b="1" i="1" lang="ru-RU" sz="2500" spc="-1" strike="noStrike" u="sng">
                <a:solidFill>
                  <a:srgbClr val="ff3300"/>
                </a:solidFill>
                <a:uFillTx/>
                <a:latin typeface="Georgia"/>
              </a:rPr>
              <a:t>, </a:t>
            </a:r>
            <a:r>
              <a:rPr b="1" i="1" lang="en-US" sz="2500" spc="-1" strike="noStrike" u="sng">
                <a:solidFill>
                  <a:srgbClr val="ff3300"/>
                </a:solidFill>
                <a:uFillTx/>
                <a:latin typeface="Georgia"/>
              </a:rPr>
              <a:t>a</a:t>
            </a:r>
            <a:r>
              <a:rPr b="1" i="1" lang="ru-RU" sz="2500" spc="-1" strike="noStrike" u="sng">
                <a:solidFill>
                  <a:srgbClr val="ff3300"/>
                </a:solidFill>
                <a:uFillTx/>
                <a:latin typeface="Georgia"/>
              </a:rPr>
              <a:t>, </a:t>
            </a:r>
            <a:r>
              <a:rPr b="1" i="1" lang="en-US" sz="2500" spc="-1" strike="noStrike" u="sng">
                <a:solidFill>
                  <a:srgbClr val="ff3300"/>
                </a:solidFill>
                <a:uFillTx/>
                <a:latin typeface="Georgia"/>
              </a:rPr>
              <a:t>code</a:t>
            </a:r>
            <a:r>
              <a:rPr b="1" i="1" lang="ru-RU" sz="2500" spc="-1" strike="noStrike" u="sng">
                <a:solidFill>
                  <a:srgbClr val="ff3300"/>
                </a:solidFill>
                <a:uFillTx/>
                <a:latin typeface="Georgia"/>
              </a:rPr>
              <a:t>),</a:t>
            </a:r>
            <a:r>
              <a:rPr b="1" i="1" lang="en-US" sz="2500" spc="-1" strike="noStrike">
                <a:solidFill>
                  <a:srgbClr val="ff3300"/>
                </a:solidFill>
                <a:latin typeface="Georgia"/>
              </a:rPr>
              <a:t> </a:t>
            </a:r>
            <a:r>
              <a:rPr b="1" i="1" lang="ru-RU" sz="2500" spc="-1" strike="noStrike">
                <a:solidFill>
                  <a:srgbClr val="ff3300"/>
                </a:solidFill>
                <a:latin typeface="Georgia"/>
              </a:rPr>
              <a:t>где </a:t>
            </a:r>
            <a:r>
              <a:rPr b="1" i="1" lang="en-US" sz="2500" spc="-1" strike="noStrike">
                <a:solidFill>
                  <a:srgbClr val="ff3300"/>
                </a:solidFill>
                <a:latin typeface="Georgia"/>
              </a:rPr>
              <a:t>st</a:t>
            </a:r>
            <a:r>
              <a:rPr b="1" i="1" lang="ru-RU" sz="2500" spc="-1" strike="noStrike">
                <a:solidFill>
                  <a:srgbClr val="ff3300"/>
                </a:solidFill>
                <a:latin typeface="Georgia"/>
              </a:rPr>
              <a:t> – строка, </a:t>
            </a:r>
            <a:r>
              <a:rPr b="1" i="1" lang="en-US" sz="2500" spc="-1" strike="noStrike">
                <a:solidFill>
                  <a:srgbClr val="ff3300"/>
                </a:solidFill>
                <a:latin typeface="Georgia"/>
              </a:rPr>
              <a:t>a</a:t>
            </a:r>
            <a:r>
              <a:rPr b="1" i="1" lang="ru-RU" sz="2500" spc="-1" strike="noStrike">
                <a:solidFill>
                  <a:srgbClr val="ff3300"/>
                </a:solidFill>
                <a:latin typeface="Georgia"/>
              </a:rPr>
              <a:t> – числовая переменная, </a:t>
            </a:r>
            <a:r>
              <a:rPr b="1" i="1" lang="en-US" sz="2500" spc="-1" strike="noStrike">
                <a:solidFill>
                  <a:srgbClr val="ff3300"/>
                </a:solidFill>
                <a:latin typeface="Georgia"/>
              </a:rPr>
              <a:t>code </a:t>
            </a:r>
            <a:r>
              <a:rPr b="1" i="1" lang="ru-RU" sz="2500" spc="-1" strike="noStrike">
                <a:solidFill>
                  <a:srgbClr val="ff3300"/>
                </a:solidFill>
                <a:latin typeface="Symbol"/>
                <a:ea typeface="Symbol"/>
              </a:rPr>
              <a:t></a:t>
            </a:r>
            <a:r>
              <a:rPr b="1" i="1" lang="ru-RU" sz="2500" spc="-1" strike="noStrike">
                <a:solidFill>
                  <a:srgbClr val="ff3300"/>
                </a:solidFill>
                <a:latin typeface="Georgia"/>
              </a:rPr>
              <a:t> переменная целого типа, по которой можно определить, успешно или нет прошел перевод. Если перевод прошел успешно&lt; то значение переменной  </a:t>
            </a:r>
            <a:r>
              <a:rPr b="1" i="1" lang="en-US" sz="2500" spc="-1" strike="noStrike">
                <a:solidFill>
                  <a:srgbClr val="ff3300"/>
                </a:solidFill>
                <a:latin typeface="Georgia"/>
              </a:rPr>
              <a:t>cod</a:t>
            </a:r>
            <a:r>
              <a:rPr b="1" i="1" lang="ru-RU" sz="2500" spc="-1" strike="noStrike">
                <a:solidFill>
                  <a:srgbClr val="ff3300"/>
                </a:solidFill>
                <a:latin typeface="Georgia"/>
              </a:rPr>
              <a:t> равно 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9:51:17Z</dcterms:created>
  <dc:creator>1</dc:creator>
  <dc:description/>
  <dc:language>en-US</dc:language>
  <cp:lastModifiedBy>Иванова</cp:lastModifiedBy>
  <dcterms:modified xsi:type="dcterms:W3CDTF">2008-02-07T19:19:23Z</dcterms:modified>
  <cp:revision>13</cp:revision>
  <dc:subject/>
  <dc:title>Функции и процедуры для работы со строковыми величинами</dc:title>
</cp:coreProperties>
</file>