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A7E-E39B-4C63-A2EE-4007E36D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BFF-76F0-4CDA-A916-88F6FA5E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5F5-1DE6-46E1-8735-B2B3F774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36D-8BA1-4167-B8C7-B0D10967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6193-662B-4766-9660-FE7C89AC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FEEC-76E0-4CF1-A7B2-739D943B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B505-2505-45B0-B60B-550987F9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72C3-93B9-472B-B013-AE39A29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264-9F1E-4FDC-A1FF-53057486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BD54-8CF1-4078-9C5D-061EC1A6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EA83-926A-43BD-80A6-E23792C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FA9-2EF4-44E6-9885-7E2A6AE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B603-8914-422A-8AB8-A22937B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8783-089E-4328-840C-13D7F68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C6C9-24C6-4394-A484-7B6F7E2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ECAC-5D75-4EA2-867E-2F0EFD4E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25E6-4730-404B-9729-F409EC82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FBD-F57E-49B6-8360-C2A8ED0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F6C-9E99-4C57-855B-57D23144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698-1626-4DC7-A272-62654097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A24-288D-410D-8D17-4802676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DCF-DFE6-453A-9B92-91C061E6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55BE-6CED-413A-A7BC-68DD5E75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91A-DB6C-4677-B8E3-1531B09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A698-572A-430C-8AF0-3EA7A4235B68}" type="slidenum">
              <a:rPr b="0" lang="kk-K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AC2C-DF63-431F-9C32-84CE55CE798D}" type="slidenum">
              <a:rPr b="0" lang="kk-K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1989000"/>
            <a:ext cx="8675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Задачи для 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практических работ  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Подсчитать количество букв в введенном слове </a:t>
            </a: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(информатик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Является ли слово перевертышем (канат, казак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Удалить гласные буквы из введенного слова. (</a:t>
            </a: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Yellow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,</a:t>
            </a:r>
            <a:r>
              <a:rPr b="1" i="1" lang="en-US" sz="3600" spc="-1" strike="noStrike">
                <a:solidFill>
                  <a:srgbClr val="ffffff"/>
                </a:solidFill>
                <a:latin typeface="Monotype Corsiva"/>
              </a:rPr>
              <a:t> Class</a:t>
            </a: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Monotype Corsiva"/>
              </a:rPr>
              <a:t>Даны 3 слова: КАЗАХСТАН, ИНФОРМАТИКА, УНИВЕРМАГ. Необходимо составить одно слово из 6-ти букв из 3-х данных сл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8-02-08T07:05:53Z</dcterms:modified>
  <cp:revision>7</cp:revision>
  <dc:subject/>
  <dc:title>PowerPoint Presentation</dc:title>
</cp:coreProperties>
</file>