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25A-A22C-4EE9-98EE-03FDE495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CE6-5A65-402D-85F4-4F2FC01C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BE2-6BCB-44EC-B669-5F52F4E4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FA8-09B6-4366-8CCB-39284AFE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9EB-8F1A-46DD-B4B0-C71768E1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5A8-FA72-418D-9829-893704F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2D5B-8DA8-4D4A-A58C-EBFA7DD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758-5E48-449F-B50A-18D9590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C84-4AE2-4D7B-BFD7-0944199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55E7-8A39-4968-8360-E494F01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E309-AB69-4005-BFAC-A743A98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18F-88F8-4FB1-843F-0B6D118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417C-4A96-45E5-9290-AFF95F1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DC52-AF40-4E85-9704-D3A44C9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FAA0-E19E-4778-A033-D2F7FE6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9199-5106-459D-8D64-B09E0C18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3E8-5376-489E-BC15-571B04B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813-515E-4F42-BC0A-F6425376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1A5-B6B6-42E8-91CF-D24A8BA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648-6E06-4227-A86E-E9969891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F16-CA0A-4DA2-90A8-0BCA320B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61A-9F1E-4D18-A27F-822FE16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36E-4381-4DA6-ACA7-594667C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44F-1624-4724-9366-C26A4CB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D0C-114D-4182-9C2F-B14B6BD78C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73F2-5A6C-428D-AEFB-44496A9A3D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ascal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Юный программист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соревн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Цель: Закрепить полученные знания по теме разветвляющиеся алгоритмы в виде урока –соревнов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О: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чебник, тетрадь,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ТР,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S WORD,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PowerPoi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Тип урока: урок-соревн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Требования к ЗУН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Знание операторов по данной тем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мение составлять программу и проверять ее на наличие ошиб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мение работать в команд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а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делится на 2 команды. Каждая команда выполняет 4 конкурсных заданий. За каждое задание можно получить максимум 15 фишек. Итог подсчитывается по общей сумме заработанных фишек. Участники команды-победителя получают текущие оценки «5» по  информат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 конкурс «Разм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ткрывающая и закрывающая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лючевые слова условного операт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лючевые слова оператора выб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Логические операции языка Паскаль и их зна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Как можно записать условие – через запятую или через т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 конкурс «Найди ошибк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program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var x, :real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ln(‘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д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x’); read (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if x&lt;=0 then y:= sin(x) else y:= cos(x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writeln(‘y=’,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program 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var x, y:real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ln(‘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д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x’); read (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x&lt;2 then y:= x else if x&lt;=3 then y:=2  else y:= 5-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writeln(‘y=’,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58920" y="1052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3068640"/>
                <a:ext cx="1081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3 конкурс «Программис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ком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ваш вес больше 70 кг , то выдать текст «Хватит есть» , если меньше выдать текст «Приятного аппетита» . Составьте програм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ком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каждой введенной цифры (0-5) выведите соответствующее название на английском языке (0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ero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1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2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ставьте   програм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конкурс «Проверь свои знания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Pascal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ведение итог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бор фишек, подсчет количество бал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раждение победителей сертификат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машнее задание к уроку №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аграф №1.7 «Разветвляющиеся алгоритмы» стр 36-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е придумать самостоятельно две задачи на пройденные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8-02-08T11:22:02Z</dcterms:modified>
  <cp:revision>4</cp:revision>
  <dc:subject/>
  <dc:title>PowerPoint Presentation</dc:title>
</cp:coreProperties>
</file>