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AC0-186D-4EC5-9715-EE01F7FE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C62-9CC7-47D2-A7E5-2422BC44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959-78B0-4DB4-BF92-9035F9FE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E6C-598A-43D4-ABC4-5A459428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D71BC-7861-4F69-BFAF-E4FD98CA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3AB69-BB3B-4A2C-8045-C47B7F6C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02B58-399F-4656-A501-523479E7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B1DB1-DDBC-40DF-845D-7A5DD1D7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29685-42DE-4362-8C1D-3953F593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14BF4-11D7-4992-A212-FFDA6CD5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B3D1B-8B59-4B56-A23C-ECDFFE09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2A6-0ADB-4310-94DD-F05A7652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F6ECE-EAFF-43CA-8B02-A758E68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BDE7A-4439-4E5F-9F0E-7E1AF173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80DA6-3D5C-4C48-B09E-23231E25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7C9CC-16C9-4AE6-AE48-9C1C22CE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D5699-D0B4-4301-82DE-1D4E747C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92A-E6AA-4BF1-A819-81EB3411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7C1-D112-410A-9CB6-C547E6B8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E77-0384-40DD-AEDF-8C0D845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193-7619-476C-8031-1DD6C25D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2A2-FDAE-439F-A696-7666F1F9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F11-7ADB-4B62-ADDA-8ABC9557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EA1-6327-4044-A7D6-94540327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417C-C44B-4552-82B2-39289AF4AC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0C69-A877-45CC-857D-3BA3162148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79;&#1072;&#1076;&#1072;&#1095;&#1080;%20&#1085;&#1072;%20&#1079;&#1072;&#1082;&#1088;&#1077;&#1087;&#1083;&#1077;&#1085;&#1080;&#1077;.doc" TargetMode="External"/><Relationship Id="rId3" Type="http://schemas.openxmlformats.org/officeDocument/2006/relationships/hyperlink" Target="file:///&#1079;&#1072;&#1076;&#1072;&#1095;&#1080;%20&#1085;&#1072;%20&#1079;&#1072;&#1082;&#1088;&#1077;&#1087;&#1083;&#1077;&#1085;&#1080;&#1077;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Monotype Corsiva"/>
              </a:rPr>
              <a:t>Тема: Операторы выбор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к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Цель : Дать учащимся понятиие об  операторах выбора и их приминения.</a:t>
            </a:r>
            <a:br>
              <a:rPr sz="2000"/>
            </a:b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ПО: тетрадь, учебник, ТР, </a:t>
            </a: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M</a:t>
            </a: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S WORD, </a:t>
            </a: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PowerPoint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Тип урока: объяснительно – демонстрационный практикум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Требования к ЗУН учащихся :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запись  команд выбора 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ыполнение условий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арианты записи операторов выбора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умение составлять програм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Когда в команде ветвления становится более двух вариантов действия, то ее запись становится громоздкой.</a:t>
            </a:r>
            <a:br>
              <a:rPr sz="2400"/>
            </a:b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ля этого в языке Паскаль имеется команда выбора представленная следующими оператором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ase of </a:t>
            </a: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рассмотрим пример решения задачи на определение времени года.</a:t>
            </a:r>
            <a:br>
              <a:rPr sz="2400"/>
            </a:b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Определить по введенному номеру месяца время г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грамма на языке Паска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Program Vremya goda;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var n: integer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ведит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номер месяц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eadln (n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ase n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2,1,2: 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зим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3..5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есн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..8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лет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9..11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сень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eadl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еделить по введенному  числу возраста, кем является человек- «ребенок», «ученик», «студент», «рабочий», «пенсионер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Program vozrast;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var n: 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введите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ваш возраст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readln (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Case n 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1..6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ребенок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7..17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ученик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18..23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студент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24..58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рабочий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58..80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пенсионер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крепле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ются зада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самостоятельной работ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карточк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задачи на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закрепление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№1.7 «Разветвляющиеся алгоритмы» стр 45-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е №7 страница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8-02-08T11:21:00Z</dcterms:modified>
  <cp:revision>6</cp:revision>
  <dc:subject/>
  <dc:title>PowerPoint Presentation</dc:title>
</cp:coreProperties>
</file>