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2F43-2B40-491B-8FB8-5725F741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251-207F-453A-BBAC-58938D15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A112-76A1-43AE-9016-C6937920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8502-469C-4A81-97C5-073D7159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B5876-CAEB-41AB-889A-D096A60D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B85BC-47A0-4886-B95E-EA8E9FF7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EBA60-04D5-4CFC-8A6F-042BCD91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7D35C-2201-4895-86C6-1CA00E7A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843A3-E07E-49CB-A4A4-5D2FF217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31488-8CB6-4AAE-9FC3-FF5A224F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B7E54-A224-473E-BFB6-6632F531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5D85-A5E1-40B5-A16E-A9AE060B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9C84E-650E-457F-8851-84F101D2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E0312-6C35-442E-AAB5-4478B856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AAD8A-43CA-4A1B-A11B-4D74F341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85051-092B-4E43-98F7-5F8F5292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A0394-BA75-4FF9-A2A5-B3B1C312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8AF-7D26-4E1B-B245-336D8ADE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8D2-9B64-463F-8CC7-B997330F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751-DA3A-4934-9C3B-5B55A9DF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C0C9-C5DB-4BE8-8AB0-98A4C4DA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EF60-ED27-4759-8817-BAB0446D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D4D-A028-460C-B3D6-89713989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E6EE-0F37-4197-95C9-45467200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0FB0-90C6-41CB-A496-442805F12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C521-4649-418F-876D-59A7F33E7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8091720" cy="27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ahoma"/>
              </a:rPr>
              <a:t>Тема: </a:t>
            </a:r>
            <a:br>
              <a:rPr sz="2800"/>
            </a:br>
            <a:r>
              <a:rPr b="1" lang="kk-KZ" sz="4000" spc="-1" strike="noStrike">
                <a:solidFill>
                  <a:srgbClr val="33cccc"/>
                </a:solidFill>
                <a:latin typeface="Monotype Corsiva"/>
              </a:rPr>
              <a:t>Знакомство с </a:t>
            </a:r>
            <a:r>
              <a:rPr b="1" lang="ru-RU" sz="4000" spc="-1" strike="noStrike">
                <a:solidFill>
                  <a:srgbClr val="33cccc"/>
                </a:solidFill>
                <a:latin typeface="Monotype Corsiva"/>
              </a:rPr>
              <a:t>р</a:t>
            </a:r>
            <a:r>
              <a:rPr b="1" lang="kk-KZ" sz="4000" spc="-1" strike="noStrike">
                <a:solidFill>
                  <a:srgbClr val="33cccc"/>
                </a:solidFill>
                <a:latin typeface="Monotype Corsiva"/>
              </a:rPr>
              <a:t>азветвляющимися алгоритмам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рок №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kk-KZ" sz="2000" spc="-1" strike="noStrike">
                <a:solidFill>
                  <a:srgbClr val="33cccc"/>
                </a:solidFill>
                <a:latin typeface="Tahoma"/>
              </a:rPr>
              <a:t>Цель : Дать учащимся понятиие о разветвляющихся алгоритмах , формах реализации ветвления, об условном и безусловном операторах.</a:t>
            </a:r>
            <a:br>
              <a:rPr sz="2000"/>
            </a:br>
            <a:r>
              <a:rPr b="1" lang="kk-KZ" sz="2000" spc="-1" strike="noStrike">
                <a:solidFill>
                  <a:srgbClr val="33cccc"/>
                </a:solidFill>
                <a:latin typeface="Tahoma"/>
              </a:rPr>
              <a:t>ПО: </a:t>
            </a: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учебник, тетрадь,</a:t>
            </a:r>
            <a:r>
              <a:rPr b="1" lang="kk-KZ" sz="2000" spc="-1" strike="noStrike">
                <a:solidFill>
                  <a:srgbClr val="33cccc"/>
                </a:solidFill>
                <a:latin typeface="Tahoma"/>
              </a:rPr>
              <a:t>ТР, </a:t>
            </a:r>
            <a:r>
              <a:rPr b="1" lang="en-US" sz="2000" spc="-1" strike="noStrike">
                <a:solidFill>
                  <a:srgbClr val="33cccc"/>
                </a:solidFill>
                <a:latin typeface="Tahoma"/>
              </a:rPr>
              <a:t>M</a:t>
            </a:r>
            <a:r>
              <a:rPr b="1" lang="kk-KZ" sz="2000" spc="-1" strike="noStrike">
                <a:solidFill>
                  <a:srgbClr val="33cccc"/>
                </a:solidFill>
                <a:latin typeface="Tahoma"/>
              </a:rPr>
              <a:t>S WORD, </a:t>
            </a:r>
            <a:r>
              <a:rPr b="1" lang="en-US" sz="2000" spc="-1" strike="noStrike">
                <a:solidFill>
                  <a:srgbClr val="33cccc"/>
                </a:solidFill>
                <a:latin typeface="Tahoma"/>
              </a:rPr>
              <a:t>PowerPoint.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Тип урока: объяснительно – демонстрационный практикум.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Требования к ЗУН учащихся :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- выполнение команд ветвления 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- выполнение условного оператора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- выполнение безусловного оператора.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- умение составлять программу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ы с Вами закончили изучение линейных алгоритмов , научились составлять  программы и убедились с вами на опыте , что не  все можно запрограммировать  используя только линейные алгоритмы. Например  вспомним с Вами сказку А.С. Пушкина « У лукоморья дуб  зеленый…».Там есть такие строки 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У Лукоморья дуб зеленый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латая цепь на дубе том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днем и ночью кот ученый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се ходит по цепи кругом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Идет на право – песнь заводит  ,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Налево сказку говорит…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ли когда вы переходите дорогу , вспомните свои действия. Таким образом нам необходимы дополнительные сведения для того чтобы запрограммировать наши действия  , когда необходим  выбор. Поэтому тема нашего сегодняшнего урока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Разветвляющиеся алгоритмы »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мотрим с вами пример решения задачи  на нахождение наибольшего числа из двух чисел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ачала рассмотрим его на алгоритмическом язы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грамма будет представлена таким образо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алг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НИД  (арг вещ а,в,  рез вещ х )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нач 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ввод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а,в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если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а&gt;в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то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х: =а  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иначе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х:=в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все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вывод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х</a:t>
            </a:r>
            <a:br>
              <a:rPr sz="2400"/>
            </a:b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к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лок сх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0480" y="1910160"/>
            <a:ext cx="6934680" cy="3386520"/>
            <a:chOff x="870480" y="1910160"/>
            <a:chExt cx="6934680" cy="3386520"/>
          </a:xfrm>
        </p:grpSpPr>
        <p:sp>
          <p:nvSpPr>
            <p:cNvPr id="91" name=""/>
            <p:cNvSpPr/>
            <p:nvPr/>
          </p:nvSpPr>
          <p:spPr>
            <a:xfrm>
              <a:off x="1845720" y="2413080"/>
              <a:ext cx="1272960" cy="45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</a:rPr>
                <a:t>д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66560" y="1910160"/>
              <a:ext cx="2217960" cy="1863360"/>
            </a:xfrm>
            <a:prstGeom prst="diamond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400000" y="2849760"/>
              <a:ext cx="1572480" cy="1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719360" y="2849760"/>
              <a:ext cx="14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66160" y="2866680"/>
              <a:ext cx="16200" cy="157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87600" y="2866680"/>
              <a:ext cx="31320" cy="14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70480" y="4519440"/>
              <a:ext cx="1902240" cy="760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99"/>
                  </a:solidFill>
                  <a:latin typeface="Tahoma"/>
                </a:rPr>
                <a:t>Х=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86720" y="4486680"/>
              <a:ext cx="1918440" cy="810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99"/>
                  </a:solidFill>
                  <a:latin typeface="Tahoma"/>
                </a:rPr>
                <a:t>Х=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32840" y="2510280"/>
              <a:ext cx="1163520" cy="68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</a:rPr>
                <a:t>а &gt; 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4640" y="2283480"/>
              <a:ext cx="1115640" cy="55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</a:rPr>
                <a:t>не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грамма на языке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sc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2338200" y="1737720"/>
            <a:ext cx="446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Program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НИД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var a,b: 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writeln (‘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введит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a,b’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readln (a,b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if a&gt;b then x:=a else x:=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writeln (‘x=’,x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readl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e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867280" y="4292640"/>
            <a:ext cx="242100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машнее задание к уроку №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№1.7 «Разветвляющиеся алгоритмы» стр 36-4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жнение №6 страница 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1:10:01Z</dcterms:created>
  <dc:creator>User</dc:creator>
  <dc:description/>
  <dc:language>en-US</dc:language>
  <cp:lastModifiedBy>Администратор</cp:lastModifiedBy>
  <dcterms:modified xsi:type="dcterms:W3CDTF">2008-02-08T11:19:27Z</dcterms:modified>
  <cp:revision>7</cp:revision>
  <dc:subject/>
  <dc:title>Тема:  Знакомство с разветвляющимися алгоритмами.</dc:title>
</cp:coreProperties>
</file>