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E75-EA9D-421A-BD05-FDCC1DEF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D52-9534-47E7-8729-D00036F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207-9B47-4019-820D-45F4D4A9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78A-55ED-4D25-AD26-400D9681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DFB92-ED5E-49C0-9073-5D3FB8A6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5F22B-C24C-484C-9257-9AB87B1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336E8-14E4-4C84-80A2-A21D9ED9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186FF-33B0-4F74-B775-C60A46B3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F9579-8A8E-454D-A815-E56B7BB5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C0772-9AA3-4822-A142-E435D1C0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63C24-56D3-4DBB-9197-368F88D3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0ED-7841-498F-80B3-CC3985C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9D7C-DB26-4B9B-9FC0-6DBD960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AE05-AB9A-443F-9333-F3AE09A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4DBE-D7EC-4764-8563-E272041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E916-E7B6-474D-B4BD-0147DDEC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3BB71-397D-4155-8E9E-93749958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F15-A9C0-4916-96CF-760D0CD6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CE3-04EB-40AF-90E1-8030D50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FDD-0B62-4657-B865-CCFBFA5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6AA-0237-4C32-A36B-E50641BD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724-80E1-4718-AE64-8172C80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512-420B-4E52-BBC1-25404A5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04F-35CA-4870-8363-BE1B130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129-0949-4D90-B129-B9AEE8A34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E72B-F6CF-4A40-848E-D13E6ABB6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809172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Тема: </a:t>
            </a:r>
            <a:br>
              <a:rPr sz="2800"/>
            </a:br>
            <a:r>
              <a:rPr b="1" lang="kk-KZ" sz="4000" spc="-1" strike="noStrike">
                <a:solidFill>
                  <a:srgbClr val="33cccc"/>
                </a:solidFill>
                <a:latin typeface="Monotype Corsiva"/>
              </a:rPr>
              <a:t>Знакомство с </a:t>
            </a:r>
            <a:r>
              <a:rPr b="1" lang="ru-RU" sz="4000" spc="-1" strike="noStrike">
                <a:solidFill>
                  <a:srgbClr val="33cccc"/>
                </a:solidFill>
                <a:latin typeface="Monotype Corsiva"/>
              </a:rPr>
              <a:t>р</a:t>
            </a:r>
            <a:r>
              <a:rPr b="1" lang="kk-KZ" sz="4000" spc="-1" strike="noStrike">
                <a:solidFill>
                  <a:srgbClr val="33cccc"/>
                </a:solidFill>
                <a:latin typeface="Monotype Corsiva"/>
              </a:rPr>
              <a:t>азветвляющимися алгоритм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Цель : Дать учащимся понятиие о разветвляющихся алгоритмах , формах реализации ветвления, об условном и безусловном операторах.</a:t>
            </a: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ПО: </a:t>
            </a: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учебник, тетрадь,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ТР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M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S WORD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owerPoint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ип урока: объяснительно – демонстрационный практикум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ребования к ЗУН учащихся :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команд ветвления 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условного оператора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безусловного оператора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умение составлять программу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с Вами закончили изучение линейных алгоритмов , научились составлять  программы и убедились с вами на опыте , что не  все можно запрограммировать  используя только линейные алгоритмы. Например  вспомним с Вами сказку А.С. Пушкина « У лукоморья дуб  зеленый…».Там есть такие строки 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У Лукоморья дуб зелен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латая цепь на дубе том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днем и ночью кот ученый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 ходит по цепи кругом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Идет на право – песнь заводит  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Налево сказку говорит…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ли когда вы переходите дорогу , вспомните свои действия. Таким образом нам необходимы дополнительные сведения для того чтобы запрограммировать наши действия  , когда необходим  выбор. Поэтому тема нашего сегодняшнего урока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Разветвляющиеся алгоритмы 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с вами пример решения задачи  на нахождение наибольшего числа из двух чисел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рассмотрим его на алгоритмическом язы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а будет представлена таким образ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алг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ИД  (арг вещ а,в,  рез вещ х )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нач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вод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а,в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если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а&gt;в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то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: =а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иначе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:=в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с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х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лок сх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0480" y="1910160"/>
            <a:ext cx="6934680" cy="3386520"/>
            <a:chOff x="870480" y="1910160"/>
            <a:chExt cx="6934680" cy="3386520"/>
          </a:xfrm>
        </p:grpSpPr>
        <p:sp>
          <p:nvSpPr>
            <p:cNvPr id="91" name=""/>
            <p:cNvSpPr/>
            <p:nvPr/>
          </p:nvSpPr>
          <p:spPr>
            <a:xfrm>
              <a:off x="1845720" y="2413080"/>
              <a:ext cx="1272960" cy="45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6560" y="1910160"/>
              <a:ext cx="2217960" cy="186336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00000" y="2849760"/>
              <a:ext cx="157248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719360" y="284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6160" y="2866680"/>
              <a:ext cx="16200" cy="15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7600" y="2866680"/>
              <a:ext cx="31320" cy="14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0480" y="4519440"/>
              <a:ext cx="1902240" cy="760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ahoma"/>
                </a:rPr>
                <a:t>Х=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6720" y="4486680"/>
              <a:ext cx="1918440" cy="810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ahoma"/>
                </a:rPr>
                <a:t>Х=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2840" y="2510280"/>
              <a:ext cx="1163520" cy="68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а &gt; 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4640" y="2283480"/>
              <a:ext cx="111564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а на язык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s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338200" y="1737720"/>
            <a:ext cx="446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rogram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ИД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var a,b: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a,b’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 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f a&gt;b then x:=a else x:=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x=’,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421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 к уроку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№1.7 «Разветвляющиеся алгоритмы» стр 36-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е №6 страница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10:01Z</dcterms:created>
  <dc:creator>User</dc:creator>
  <dc:description/>
  <dc:language>en-US</dc:language>
  <cp:lastModifiedBy>Администратор</cp:lastModifiedBy>
  <dcterms:modified xsi:type="dcterms:W3CDTF">2008-02-08T11:19:27Z</dcterms:modified>
  <cp:revision>7</cp:revision>
  <dc:subject/>
  <dc:title>Тема:  Знакомство с разветвляющимися алгоритмами.</dc:title>
</cp:coreProperties>
</file>