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ED7-7679-46F8-BCFA-11D3FA51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FD1-0951-46FB-AE07-C2474AB6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462-837F-42FF-9724-EF734B64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F12-F0A2-411F-A64D-5408B676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9F1B-6440-42C7-B794-8D20E160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760C-587E-4880-9BA5-7DF961D5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1611-4E0E-424E-80DD-6121FD5D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C82D-56CA-4D86-BF92-60E01A81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9863-45E9-4053-BD4D-D1603463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7DED-A5F0-4B6C-A155-1C75EF5A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3DBD-CCA5-465C-8B5C-885B121F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85B-9B98-4421-B704-0682CCBF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3792-7557-4133-A0A3-2D46E41E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D60E-A2E9-492B-AAA2-C522C45F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A867-BD68-45A4-9762-80E62619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9E69-AE85-4B0A-B3D8-84AE77A6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51A1-5C70-4EE7-BA9A-74D67D69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101-6B1C-41B7-96C3-3C9545CE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7DE-FE7B-4392-A9D8-14D0A9B6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CFD-F8F5-4B5D-AC61-DA5BA194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B91-0231-453F-A4C4-7A73A3D7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A1C-70EF-4512-88C6-1B95356D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A24-F06A-44D1-8A0B-EDEFB4D7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924-FB0B-4C61-972F-3EBE83B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2623-02C3-4F87-89E9-A6DBF9E14D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686D-5212-4451-86C6-D7D4A88498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ascal.doc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«Юный программист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соревн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Цель: Закрепить полученные знания по теме разветвляющиеся алгоритмы в виде урока –соревнова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О:</a:t>
            </a:r>
            <a:r>
              <a:rPr b="1" lang="kk-KZ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чебник, тетрадь,</a:t>
            </a:r>
            <a:r>
              <a:rPr b="1" lang="kk-KZ" sz="2000" spc="-1" strike="noStrike">
                <a:solidFill>
                  <a:srgbClr val="ff9900"/>
                </a:solidFill>
                <a:latin typeface="Times New Roman"/>
              </a:rPr>
              <a:t>ТР,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1" lang="kk-KZ" sz="2000" spc="-1" strike="noStrike">
                <a:solidFill>
                  <a:srgbClr val="ff9900"/>
                </a:solidFill>
                <a:latin typeface="Times New Roman"/>
              </a:rPr>
              <a:t>S WORD,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PowerPoi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Тип урока: урок-соревн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Требования к ЗУН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Знание операторов по данной тем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мение составлять программу и проверять ее на наличие ошибо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мение работать в команд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а иг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 делится на 2 команды. Каждая команда выполняет 4 конкурсных заданий. За каждое задание можно получить максимум 15 фишек. Итог подсчитывается по общей сумме заработанных фишек. Участники команды-победителя получают текущие оценки «5» по  информати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 конкурс «Разм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ткрывающая и закрывающая скоб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Ключевые слова условного операто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Ключевые слова оператора выб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Логические операции языка Паскаль и их зна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Как можно записать условие – через запятую или через точ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2 конкурс «Найди ошибку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program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var x, :real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ln(‘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д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x’); read (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if x&lt;=0 then y:= sin(x) else y:= cos(x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writeln(‘y=’,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program 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var x, y:real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ln(‘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д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x’); read (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f x&lt;2 then y:= x else if x&lt;=3 then y:=2  else y:= 5-x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writeln(‘y=’,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58920" y="1052640"/>
                <a:ext cx="1152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42920" y="3068640"/>
                <a:ext cx="1081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3 конкурс «Программист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коман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ли ваш вес больше 70 кг , то выдать текст «Хватит есть» , если меньше выдать текст «Приятного аппетита» . Составьте програм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коман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каждой введенной цифры (0-5) выведите соответствующее название на английском языке (0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ero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1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2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 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ставьте   програм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конкурс «Проверь свои знания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Pascal.d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дведение итог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бор фишек, подсчет количество балл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граждение победителей сертификат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машнее задание к уроку №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аграф №1.7 «Разветвляющиеся алгоритмы» стр 36-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жнение придумать самостоятельно две задачи на пройденные 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8-02-08T11:22:02Z</dcterms:modified>
  <cp:revision>4</cp:revision>
  <dc:subject/>
  <dc:title>PowerPoint Presentation</dc:title>
</cp:coreProperties>
</file>