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DF5-7330-42E4-9E29-1E55A593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D742-6A35-409D-B51A-E700A6E4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304-AD81-4C55-9581-48FDC8D0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729E-26D2-4B39-8B34-89505DAE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73324-3137-4FE3-B943-6F186996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B92DA-A218-4DD6-B5EE-DE9B9935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5ECDE-88A3-4B31-A857-707D93F3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00CA2-A12B-4CCF-B42D-CC87F1F9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65402-0FDC-40BA-96B7-82A7A764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8E3BD-36B9-4E05-967E-D9AAC9D2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10D9C-07E7-4E6E-ACA6-5010CB68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D5F1-3A10-4C09-BF75-ABB47072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89F57-069A-4786-9615-2515F548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D1010-333B-4BE5-A3B6-8D3D2D74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B3EE2-B6F8-4DD1-A311-067EDFA4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F4D4A-A6E5-46F6-92DB-2DB5D1E6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DC6C7-334A-4E07-970E-F9F0A058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F3D-FB41-4F93-9881-5CE7B2D6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1C54-F7B2-423E-9621-4287EC14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095C-FEEA-4E28-818B-43C99B92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208F-1040-413D-A64F-7736AEA0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74DF-13CD-49F9-884A-74FA3B3B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2C2D-56A5-4A69-A833-CF69BB90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FFF3-AA4F-4948-A329-111572E0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98CD-78DC-417C-8491-2BEED1943D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EA8C-C013-42B6-8A9F-C04C9D235B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79;&#1072;&#1076;&#1072;&#1095;&#1080;%20&#1085;&#1072;%20&#1079;&#1072;&#1082;&#1088;&#1077;&#1087;&#1083;&#1077;&#1085;&#1080;&#1077;.doc" TargetMode="External"/><Relationship Id="rId3" Type="http://schemas.openxmlformats.org/officeDocument/2006/relationships/hyperlink" Target="file:///&#1079;&#1072;&#1076;&#1072;&#1095;&#1080;%20&#1085;&#1072;%20&#1079;&#1072;&#1082;&#1088;&#1077;&#1087;&#1083;&#1077;&#1085;&#1080;&#1077;.doc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99ff"/>
                </a:solidFill>
                <a:latin typeface="Monotype Corsiva"/>
              </a:rPr>
              <a:t>Тема: Операторы выбор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ок №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kk-KZ" sz="2000" spc="-1" strike="noStrike">
                <a:solidFill>
                  <a:srgbClr val="33cccc"/>
                </a:solidFill>
                <a:latin typeface="Tahoma"/>
              </a:rPr>
              <a:t>Цель : Дать учащимся понятиие об  операторах выбора и их приминения.</a:t>
            </a:r>
            <a:br>
              <a:rPr sz="2000"/>
            </a:br>
            <a:r>
              <a:rPr b="1" lang="kk-KZ" sz="2000" spc="-1" strike="noStrike">
                <a:solidFill>
                  <a:srgbClr val="33cccc"/>
                </a:solidFill>
                <a:latin typeface="Tahoma"/>
              </a:rPr>
              <a:t>ПО: тетрадь, учебник, ТР, </a:t>
            </a:r>
            <a:r>
              <a:rPr b="1" lang="en-US" sz="2000" spc="-1" strike="noStrike">
                <a:solidFill>
                  <a:srgbClr val="33cccc"/>
                </a:solidFill>
                <a:latin typeface="Tahoma"/>
              </a:rPr>
              <a:t>M</a:t>
            </a:r>
            <a:r>
              <a:rPr b="1" lang="kk-KZ" sz="2000" spc="-1" strike="noStrike">
                <a:solidFill>
                  <a:srgbClr val="33cccc"/>
                </a:solidFill>
                <a:latin typeface="Tahoma"/>
              </a:rPr>
              <a:t>S WORD, </a:t>
            </a:r>
            <a:r>
              <a:rPr b="1" lang="en-US" sz="2000" spc="-1" strike="noStrike">
                <a:solidFill>
                  <a:srgbClr val="33cccc"/>
                </a:solidFill>
                <a:latin typeface="Tahoma"/>
              </a:rPr>
              <a:t>PowerPoint.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Тип урока: объяснительно – демонстрационный практикум.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Требования к ЗУН учащихся :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- запись  команд выбора 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- выполнение условий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- варианты записи операторов выбора</a:t>
            </a:r>
            <a:br>
              <a:rPr sz="2000"/>
            </a:br>
            <a:r>
              <a:rPr b="1" lang="ru-RU" sz="2000" spc="-1" strike="noStrike">
                <a:solidFill>
                  <a:srgbClr val="33cccc"/>
                </a:solidFill>
                <a:latin typeface="Tahoma"/>
              </a:rPr>
              <a:t>- умение составлять программ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Когда в команде ветвления становится более двух вариантов действия, то ее запись становится громоздкой.</a:t>
            </a:r>
            <a:br>
              <a:rPr sz="2400"/>
            </a:b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Для этого в языке Паскаль имеется команда выбора представленная следующими оператором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case of </a:t>
            </a: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рассмотрим пример решения задачи на определение времени года.</a:t>
            </a:r>
            <a:br>
              <a:rPr sz="2400"/>
            </a:b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Определить по введенному номеру месяца время г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грамма на языке Паска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Program Vremya goda;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var n: integer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writeln (‘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введит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номер месяц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’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readln (n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Case n o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2,1,2: writeln (‘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зим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’)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      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3..5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: writeln (‘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весн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’)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;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      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..8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: writeln (‘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лето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’)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;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      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9..11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: writeln (‘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осень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’)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;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readl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e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ределить по введенному  числу возраста, кем является человек- «ребенок», «ученик», «студент», «рабочий», «пенсионер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Program vozrast;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var n: integ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writeln (‘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введите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ваш возраст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’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readln (n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Case n o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1..6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: writeln (‘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ребенок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’)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7..17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: writeln (‘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ученик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’)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;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18..23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: writeln (‘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студент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’)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;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24..58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: writeln (‘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рабочий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’)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;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58..80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: writeln (‘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пенсионер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’)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readln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en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креплени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ются задач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самостоятельной работ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карточк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задачи на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закрепление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№1.7 «Разветвляющиеся алгоритмы» стр 45-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ражнение №7 страница 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08-02-08T11:21:00Z</dcterms:modified>
  <cp:revision>6</cp:revision>
  <dc:subject/>
  <dc:title>PowerPoint Presentation</dc:title>
</cp:coreProperties>
</file>