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E1BB-5EC0-470D-9CEB-EA7B3FC8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7870-75E0-4A8F-81E8-36CA3B52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5531-A117-4C3F-AE72-EA21339A2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6AC2-C849-43E0-A191-FB2E7E2DB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3090-A674-4C71-9A2D-F1D8D889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7DFD-7A30-48B1-B914-9400037D2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F524-2F0D-4EC4-AE49-F0D0B59D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CBE5-8CF6-49DF-88DC-54B5BF01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AC70-38FD-4A4D-BEB2-CB790C55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17E8-AB6E-465F-A820-77B9117F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CAFAB-6B37-4E34-8794-30638E88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0CC8-7DFD-47E0-B0EF-B71417AE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FCC2E-D2B1-4782-9470-CC92DC58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4144-A9C1-41C1-9D3D-9AA1AF5E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6676-E5FF-44E8-AD60-8F291BE6B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3214-CC54-4715-9C97-75C4C01D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E873-7959-4AF1-A0B2-EA6E892D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9024-3FA3-4EC1-A31F-E58ED1FC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FDFC-241C-415E-80C6-4E04C7AF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DD9C-7DA2-4FD2-B175-637D5210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189-0EC0-4E16-B0D9-4AB10A6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0A21-DD0A-4965-9886-133E8974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257E-FE12-4B1F-9A99-4D9560F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373F-8268-4611-B046-F8433B6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411B-8046-4BE8-AD2B-9502F56653E2}" type="slidenum">
              <a:rPr b="0" lang="kk-K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k-K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2972-2483-445E-A75C-838A55183921}" type="slidenum">
              <a:rPr b="0" lang="kk-K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700360" y="1916280"/>
            <a:ext cx="3024000" cy="1584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и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5435640" y="1700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72360" y="1268280"/>
            <a:ext cx="1873080" cy="7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3645000"/>
            <a:ext cx="187308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3933720"/>
            <a:ext cx="1873080" cy="792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олш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435640" y="1700280"/>
            <a:ext cx="936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68360" y="1052640"/>
            <a:ext cx="1873080" cy="79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2720" y="3284640"/>
            <a:ext cx="934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908000" y="3284640"/>
            <a:ext cx="122400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268360" y="1628280"/>
            <a:ext cx="71928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124000" y="333360"/>
            <a:ext cx="4248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Тема: Массив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на изменение таблиц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8360" y="1558440"/>
            <a:ext cx="7634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дача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а таблица с = 20. Заменить элементы этой таблицы, имеющие четные порядковые номера на 8, а нечетные на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 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 n = 2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array [1.. n] of real; i : integ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 writeln (‘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вед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лемент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ив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’’)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i := 1 to n do readln (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 i ]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i := 1 to n do 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 i mod 2 = 0 then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 i ] = 8 else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ln (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 i ] 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l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есколько массивов одного размер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96488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дача 4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</a:t>
            </a:r>
            <a:r>
              <a:rPr b="1" lang="kk-KZ" sz="18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ва массива одного размера. Получить третий массив, каждый элемент которого равен сумме элементов с одинаковыми номерами в заданных массив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 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 n = 2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a,b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array [1.. n] of real; i : integ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 writel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‘введи элемент 1-го массива’’)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i := 1 to n do readln ( a[ i ]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‘введи элемент 2-го массива’’)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i := 1 to n do readln ( b[ i ]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i := 1 to n do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 i ]:= a[ i ] + b[ i 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l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 ‘вывод 3-го массива’, с[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] 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l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ртировка массив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68280" y="1354320"/>
            <a:ext cx="8408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Задача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5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 массив. Поменять местами 1-й и максимальный элемен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gram p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 n = 2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 a:array [1.. n] of  real; k, i: integer; m, s: re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gin writeln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(‘введи массив’’) 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i := 1 to n do readln ( a[ i ]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:= a[ 1 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i := 2 to n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  a[ i ] &gt; m then begin m:= a[ 1 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:= 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ln ( ‘max=’, m 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:= a[ 1 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[ 1 ] := a[ k 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i := 1 to n do writeln (a[ i ]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dl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ccecff"/>
                </a:solidFill>
                <a:latin typeface="Arial"/>
              </a:rPr>
              <a:t>Массив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Массив — это упорядоченная по номерам совокупность значений, объединенных общим именем и тип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826920" y="2060640"/>
            <a:ext cx="7704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Массив должен быть объявлен в разделе объявления переменны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При объявлении массива удобно использовать именованные конста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оступ к элементу массива осуществляется путем указания индекса (номера) элемента, в качестве которого можно использовать выражение целого типа, например, целую константу или переменную типа integ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900000" y="765000"/>
            <a:ext cx="7129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Свойства масси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8360" y="1628640"/>
            <a:ext cx="8280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ассивы описываются с помощью служебного слова </a:t>
            </a:r>
            <a:r>
              <a:rPr b="0" i="1" lang="ru-RU" sz="3600" spc="-1" strike="noStrike">
                <a:solidFill>
                  <a:srgbClr val="99ff99"/>
                </a:solidFill>
                <a:latin typeface="Arial"/>
              </a:rPr>
              <a:t>arra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щая запись описания массив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я массива: array [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ч.индекс..макс.индекс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] of тип элемен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пример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: array [ 1..4 ]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g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627280" y="836640"/>
            <a:ext cx="50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писание массива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42560" y="1052640"/>
            <a:ext cx="8101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выполнении операто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rray [ 1..4 ]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of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er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скаль выделит 4 под масс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ип элемента массива может быть любым простым типом (real, integer, char,.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340000" y="2997360"/>
          <a:ext cx="4824360" cy="9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997360"/>
                    <a:ext cx="48243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19280" y="476280"/>
            <a:ext cx="6119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Типы задач на масси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 на подсчет элементов массива, отвечающих заданным услови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 на нахождение суммы или произведения элементов отвечающих заданным услови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чи на изменение табл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сколько массивов одного разме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тировка массив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468360" y="1484280"/>
            <a:ext cx="8136000" cy="4537080"/>
            <a:chOff x="468360" y="1484280"/>
            <a:chExt cx="8136000" cy="4537080"/>
          </a:xfrm>
        </p:grpSpPr>
        <p:sp>
          <p:nvSpPr>
            <p:cNvPr id="234" name=""/>
            <p:cNvSpPr/>
            <p:nvPr/>
          </p:nvSpPr>
          <p:spPr>
            <a:xfrm>
              <a:off x="540000" y="2060280"/>
              <a:ext cx="1871640" cy="792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интакси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пис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060720" y="2852640"/>
              <a:ext cx="2808360" cy="17272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Масси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61080" y="1555560"/>
              <a:ext cx="1871640" cy="792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мен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72360" y="2492280"/>
              <a:ext cx="2232000" cy="1008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Упорядоченна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совокупност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56360" y="4147920"/>
              <a:ext cx="1871640" cy="792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манда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пис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08720" y="5013000"/>
              <a:ext cx="2160360" cy="100836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Объединение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элементо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87640" y="4437000"/>
              <a:ext cx="1871640" cy="792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ип величи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8360" y="3068640"/>
              <a:ext cx="1871640" cy="792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Им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29080" y="1484280"/>
              <a:ext cx="1871640" cy="79200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Индек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80000" y="2276280"/>
              <a:ext cx="289080" cy="576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860720" y="2347920"/>
              <a:ext cx="647640" cy="504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796000" y="3139920"/>
              <a:ext cx="649440" cy="216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796000" y="4076640"/>
              <a:ext cx="576360" cy="215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88000" y="4579920"/>
              <a:ext cx="73080" cy="36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772000" y="4221000"/>
              <a:ext cx="504720" cy="287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13080" y="3429000"/>
              <a:ext cx="647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7080" y="2708280"/>
              <a:ext cx="1224000" cy="431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1186920" y="2060640"/>
            <a:ext cx="6480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ача 1. Дан целочисленный массив а = 10. найти количество четных эле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p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 n = 1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 a:array [1.. n] of integer; i, k: intege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 writeln (‘’) 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i := 1 to n do readln ( a[ i ]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 :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i := 1 to n 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a[ i ] mod 2 = 0 then k := k +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ln (‘ k= ‘ ; k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288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Задачи на подсчет элементов массива, отвечающих заданным условия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80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Задачи на нахождение суммы или произведения элементов отвечающих заданным условиям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610920" y="2349000"/>
            <a:ext cx="806436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ача 2. Для линейной вещественной таблицы В = 20 найти полусумму всех положительных эле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 p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 n =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 b:array [1.. n] of real; I : integer; s: rea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 writeln (‘’) 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i := 1 to n do readln ( b[ i ] 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 :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i := 1 to n d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b[ i ] &gt; 0 then s := s + b[ i ]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:= s/2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riteln (‘ s= ‘ ; s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adl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8:30:04Z</dcterms:created>
  <dc:creator>1</dc:creator>
  <dc:description/>
  <dc:language>en-US</dc:language>
  <cp:lastModifiedBy>1</cp:lastModifiedBy>
  <dcterms:modified xsi:type="dcterms:W3CDTF">2008-02-08T08:20:05Z</dcterms:modified>
  <cp:revision>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